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355-A618-4E84-8A7E-E279A514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DD7-6572-4F61-9B61-D1D2FB03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68F75-E223-44C9-ACB3-3816B7CD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9A4C1-D9F8-4BAD-9EFA-DD85A963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31958-ABC6-49BB-B07B-6DBB4426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D0714-72A8-4978-95A8-3E8B0C06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95046-2CD2-42DE-A182-459A340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60E43-DD84-49AE-A849-B55AE80A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A8E4D-89C5-4444-9D82-6914068F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75AFE-4206-41C0-9954-0C1D24A3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3E84E-E955-4F23-B0E3-AA95C8FA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91C54-DD98-4B9C-888D-0B8FCF80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86B-E9FC-4DEB-B6DE-7F19505C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0107C-917B-4062-AB87-2480B43A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8C37D-F1C0-4CFF-B49C-D7887DAD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2C769-0FF9-468C-92B9-1CEB9CDB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0D473-6C1D-4270-A687-9FB87C6D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7FC0D-FDDB-4F0D-93C1-941144B8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AB83B-946D-40C2-8DBA-6E11828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932BD-F98F-437E-9DEB-D0D23DFC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32E0D-FAD2-419C-AF67-6A2E344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59787-FB46-4251-B233-F3F180EF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235F6-46EC-42DB-8B77-9864C185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20B-1E9E-4E42-ABC1-850D8997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F0FF8-9A1C-4D06-A8FB-A32449FF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C2B9E-F9B0-4964-A604-23F60CF4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A0254-2CA5-4025-ACFF-29FE0C8F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9F54B-A8F2-41FC-A040-AE835C83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41BE2-8315-4C38-92C3-8A3FFC9A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E0DBE-A741-425F-A639-8D978741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5C8AD-C595-485E-89DA-E8CC5ADE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4A9A4-E860-43A5-B779-A1097212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399CC-3427-4667-B033-DBD4964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39B43-03E9-4ABA-8967-F566A4A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841B-006A-4DC9-B751-93EDE966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34CA4-74DC-416A-92AB-2AB304BE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632A2-F7FB-4E6F-89E2-EB2CD024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4A0E5-424E-4EF4-BAEF-57E6F91F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4E8C6-DEB1-4C01-AB88-9ABA7445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351C8-297F-4500-B236-5890A5B1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A004C-CA04-4B38-9BA7-E50B65A0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BB8EA-C482-43D1-A4A4-6FF458F1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59397-51F0-4D0E-81DA-36214214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6A2B4-0B6A-43B1-95D5-B122915D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1B8E3-1F39-43C9-B289-97DBA3A6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D00E-A9EB-4CF8-9ED6-7554D072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C6195-814F-4E74-8709-4B1CE69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A433B-CAE0-4C92-93BF-9E52B6BF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2EB12-1C6B-447B-BE2E-7FE4C58F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965EB-0DBB-4D39-A4AE-2A3DC167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4F604-DE01-4FE3-AA51-12F58CBA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E854A-C24E-46D6-9923-FE33E937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EB8B6-9612-4559-9D00-B02E4C12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14BA4-1890-4946-929D-165198A3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CA4A5-12F2-4851-A447-DB90F938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B568B-8A75-42ED-8DA3-B192773D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CC4D-7842-43A1-AFEF-3E2EB613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65FDA-3CE6-4CA0-9E2C-BF8DACE7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3129F-282F-496D-92E6-CCCA92A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14CF9-6CCB-46C1-8459-613C02E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74722-B999-4D94-B4EF-72265FD7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C9F45-F0F8-4641-BEBE-B8B8062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537FB-56BD-4A73-8DCD-BBE088B7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E0E2E-475C-48DC-A637-A7BEE123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FAE4C-CEF4-4840-8AF8-17EFC501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2C891-7D0C-4004-8E53-33B5B1FE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2878F-AA0B-405E-9CA0-F48922BC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D285-F535-4ECF-AF0E-1E1F3F60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80ADB-9D2B-4933-9027-51E19DC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88E49-024E-4133-8B46-D77E7F4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8FDC3-57F5-4E9C-9FD7-017FE6A2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D5E05-471C-4D9A-A81F-F861AF6D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EB4AE-0244-4ED7-B5F0-FA3FAEB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7DDE1-7A69-4604-9DCE-EEB0F3FE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1B2B2-84F7-4500-BCB5-9B6AAC78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496ED-07D5-4C4E-8668-9E4F7341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27B4E-FE89-4E60-B08B-414E00B2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AB4A1-2E5C-47D9-B4BA-979B3FB2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B9F2-8B27-489B-BCF1-EFAE5CAF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ADD20-6457-4986-A8BC-EBEE96DE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3D77B-ADEE-46C5-8139-1728BC8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420E6-9C94-486D-AEF2-B3939A77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7BF37-0270-4599-8A5E-8A2BBBEC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7BA89-D4B3-43BC-9246-282738C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8FCFD-7D6E-45E5-89C8-4551C5D2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E8323-357D-4553-957F-ECDF129A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AD2B7-3171-4CEB-9DC7-F3BAB40B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575C0-035E-42BF-87FA-273B8A4A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16617-AD21-4E29-B17D-4A2CF13F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B53B-F2A2-4DF1-AAFE-685D4BA3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FC851-E337-4BF7-92FC-D40BC58C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FFE52-46D6-4FB5-9FF7-F1C57E1F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353EF-9800-4985-B934-56C75479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210C0-2DFC-4388-9E19-71BFDBCD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8AAE3-CF08-44E3-8E25-A091DD31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E54EC-7967-459D-A9AC-98A66ADB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65BDB3-134F-4CE8-9AD2-43DB851A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76897-64B5-4BF3-83A2-78C38831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22225-91E7-4E41-849C-7FDCDD4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2DC46-0B6E-414A-81A0-D67704AF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AD88-FF5F-484F-BDAE-7520344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3D740-49BA-4438-9C46-5FAEB61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DA2C1-CF98-4FD2-B106-C4D4E44C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AE94F-B959-400B-BD26-8CF7B5D0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8F3DA-ABC4-4658-90A5-7458DC16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2C525-7993-4BB7-97FD-4AAC7A02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AD0AB-003E-425E-A049-209CA44C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A702E-05A4-48EF-931C-441B49B7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BACB3-CE1C-4A83-9EEE-80DC1C6A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1D488-DBE1-405B-80FA-ED56C2D7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7BC8B-1CFA-4A9E-AD1D-7FF5E3C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C90-7712-49E1-A640-A756E47D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F43A-D0A1-4764-A350-B9546EE9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40F4E-81FC-45CD-870E-D3F8EBB8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E97BF-1809-426A-A190-3E25304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BB9B4-C19B-43F3-B48E-99057588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1601E-BB8B-483D-9421-33595BA7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803D1-4730-45C5-9BBF-7EBBCC38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C4B6A-FC56-4C7F-AAD5-44E1396D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0ED5D-DA8C-40CC-8A43-B194DCD0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78B98-01FC-40DD-8683-733B5A0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8FF87-91BF-4D23-9883-0A231085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E9BCB-1C30-421D-8001-D68ACEA6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BB34-5356-4EFC-AF44-AA26318F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49CF3-BDAD-4637-8DC8-080788DD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5A25B0-A533-4A7A-96EF-4493B800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FD15B-BE76-40E0-896B-5BFE84F8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04E13-1EC7-44FA-9FCA-1FAC8448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0B0D8F-9DE3-431B-A1B1-FC40B782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45F72-1135-453B-8DF6-50A16B29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4F985-438A-4221-A606-0A68EC71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C029DF-09BF-463F-B497-8FDB66B9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F559B-78B9-423F-B981-2F1194DE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EC7E80-AE7F-462E-9857-90D50673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E53C-63DA-47A9-A872-CB31E866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BCA080-6A9C-470E-9481-7976FC16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5AF48-2C66-45B7-97E0-75E98F1D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DF014-29B0-40F3-8136-9B54E3F2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B2D2D-64A4-4666-B1EA-A84E4FAF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E44C4-5748-4F92-9174-065C3075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D3020-DB61-4853-BA1D-30F86458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3F3441-532C-4EC7-BF92-5E603E2B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1C10E8-5A20-4DA5-A4C9-A2B4023F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3D546-5D5F-481D-8962-E5616DAF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BEF45-18B7-445D-A54A-EAE2FF44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C451-5B8B-4877-AA2C-C0BD6285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BF225-21F0-4FC0-8CE4-3B9BB49A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82296-BCCF-4A14-94F1-43FD80A8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11EDA-CB73-4A4D-BE46-442E9614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B677C-A3FB-4C0B-BD22-38C24CE5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B6E46-76C1-41B4-BAE5-6B60768A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C36EBE-B328-457D-9079-27C7817D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6D244-8B34-41D8-9660-B5A1F2F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236E9-79CB-4F0C-8046-97348DCB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CC072-C16B-4AEF-B123-ADFB4331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D8655A-BE34-41ED-855E-5FBC62E4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DCF3-55E9-455D-A2C4-B8A582F1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A2672-245B-44E7-84CC-1BA02F15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F5C15-677C-4855-91AD-33F8C7D6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C261B-2511-435A-BBC7-FA9BD29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9E5915-B8EF-4B0E-AC30-682F5EF5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579B83-F52F-4C13-BADC-5B9AEB6F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DABEAD-DEB4-4C60-8096-6776E388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CA6302-A1D7-4F77-A5D6-8C5F1E20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936C03-FFE6-4519-A446-689DABEC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FA3FD-A47D-4966-8BD4-0109AB34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DE1B51-264A-409C-B049-0C56BEE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DACA-3197-4D49-A59F-00B078FC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5859D-B3C9-4694-9AB2-9F11D21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54406-A55C-4FA2-B450-F0F363BB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566AA-9C4A-40CA-955E-49C8B5B4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F1A300-076A-4686-A219-94EC4724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E65B24-BF75-4EF1-B111-69E8491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8F4DA-A368-4020-877B-AE5F1603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F23396-68A9-455D-95D5-598C0C2B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16594D-BC9C-441D-9CC9-5253A9BB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34FCA9-5656-4147-BC63-06C34B4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0BC5C3-E1F1-4A55-966A-B5A2EC0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7D65-C988-40F1-AE98-42707100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3339F-67B3-48AA-B4B2-11900F34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8B107F-641A-43B6-9214-DEBDE124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F960AC-C344-4E35-9411-9D82DE2D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3B1FC9-8A7F-4853-8DA0-ED9DFD6F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56B0A4-8B58-4F24-BF6A-4E8518D0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21950A-2F83-4AEB-9860-083E982B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CB955-6562-42AA-BE68-FFE5523D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27619E-D291-47E4-A9F4-58392522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60F8E-FE43-4797-BAEE-B9B1C43D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DB3CC2-FD1C-4F4C-B6EB-1B9B41B5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EDE2-F33C-421A-BDB9-B7CA7D82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9DC514-60BF-4171-B521-41113956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C4731-0BA5-46AF-87B0-6FB0BD5E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6F4FAC-3497-4D91-9D5B-D12143EF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7DA852-F5C6-4BEC-974B-7B0C59F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4E2986-FAE8-4F9A-80E1-47E19DC5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FB49B0-9C82-4540-A38D-D86ACC34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C1433F-B37B-490A-8036-A8BC1380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6EC2FE-A0E9-4570-96E3-45289CE7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107A78-9E7B-4D65-B80A-9AB7BBBB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7C4379-4A9D-48C9-8792-447EB522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D45E-D135-4AEE-A990-30E99D14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09B3F1-BC45-44B8-88CA-FF05E901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188B06-837F-4D7D-9424-6E8A5547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367787-AD21-452B-B4F5-E7C13EC5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8C0F61-F287-4042-84B4-EA856AB6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B76925-1689-4BF4-9DCD-F7371F7C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988605-29CC-4566-8C7E-F64CD58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D73897-1D77-4576-B278-8090AA37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349979-E0AD-4EEA-A211-8E6A6639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9A2061-15E9-44F1-90E6-0F240E1B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B35336-8830-4623-844F-672B50B1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3309-F8DA-4984-B4C1-083049D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D4B9A1-E0B3-4777-AE4D-C9255939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C9793F-CD8A-40AF-8BC7-F78C0F54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6BD30D-FE2E-494C-8034-6C7B97B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B315B6-02A2-4FF2-B32C-296C3CC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772036-2139-47EB-8DFD-A2F8B74F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9F8C06-9171-47B6-B810-6941BF5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110B0C-7696-42D5-BA3B-3CEC4534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60456B-F794-44EC-A384-B89660C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BAB807-E510-4F14-BB34-89953850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C6FE0E-63BB-4270-9BB9-33803087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4EF-A0ED-424D-9DDD-09FD3B34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A1B7-A730-4BF4-9AF8-0662D884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C12C84-0BCF-490A-89DF-00F7AA5E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EC0BA4-A9C9-4862-AD0E-5CD067DB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123A9F-A164-41CA-A335-42C6DAE5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BE27B5-F33B-40AA-ABFB-DB679CAD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7C4C89-82AA-4783-976F-31D167E5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DBBE6E-7A69-4E71-A95A-755244F2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381F6F-00CD-4E6F-81F0-697324E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DE9827-AB2E-43DE-B123-9331F7B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FCAA42-43DA-4683-9864-7A67B5B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E7F21B-E83C-4C2A-A882-D898422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08D9-D8F9-4E68-AD84-E00029D4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AD4BB8-92BE-481D-8C09-D565B69E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A9E714-E32E-42F6-85A2-553088DF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ACA49B-0694-4CC0-A24A-75E43337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91048C-50F5-47C6-84B1-99523115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B21344-74DC-4E9D-A2FF-B7A55371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70145B-9DFA-495B-9FBE-B5A64BCC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FFB785-DEAC-4960-9BCD-7E1B8DDC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F5470D-9AED-446D-862D-9FCD3D6B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C3775F-9514-44B9-8009-9F57FBDF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3CCDF5-75F1-4070-8ECB-2AE74D8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2FC2E-43F0-4F36-9725-CAAE170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9649BD-F08C-4554-861F-25AE6D0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97FEA1-0112-4395-94E9-22F39200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029743-68FE-4A99-9481-14A0D4A9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4C5D13-2B02-46AE-8EC4-F390425C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E7366E-97CA-41B5-8482-241DD9E1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97B3-2510-4682-A384-C69B0282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D6B6-D0C2-490F-B71B-C1598C1D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2C5D-43AE-410E-940D-D9D7EEBD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0058-91AA-4DF4-86B1-F47CA993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4ABE-9F20-498E-B735-9D70C7A9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79E7-E01C-4652-B52E-EECB3144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AF60-CBB0-477D-9721-0B7EB47F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6AD-4CC9-4E3E-9246-2996A53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D50AB-077C-4033-AD39-348D73A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CF87-846B-40FC-B8C1-EC951885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4090-83DC-4CE0-A49D-D5B62158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858DE-AC68-4B30-B1CB-E179A958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FDD87-A331-4509-9888-4BFF89EE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9B03-5A43-45D8-A328-8FDC1005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D5A6-3154-480D-8811-132753B9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84EE-11CA-48BD-867E-AA9BF1DA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19C4-4B90-4B1B-9611-78EFA808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7515A-6D32-4C71-BA5C-8C6D15C4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8AF-C8A1-4F4C-89CD-F57591AC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5E0E-2192-4F0C-9224-180E54AC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A9AB-D92D-4A5A-A461-7E629482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B23E8-6C0E-4484-B32A-BF95835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9C81-B52D-4E3C-84B1-24C97A5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75E16-2837-40E7-B3ED-F9532A9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86C9D-74ED-42BE-89D6-9F1229D1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A4F7-2C2B-4BC4-8A80-A7A2F802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40DC-75FD-4E31-B967-73E38EA7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8694-ED0D-4D99-82E4-E78B7FB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28DA-126F-4078-AF86-CAC955C3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20A-9F49-4BEB-A1B7-193C08B5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3F578-6B1B-4000-9F96-D2BEB00D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D74FB-F0CB-4689-8E59-38BF7E1D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3E634-3D7C-4374-9084-E71391AF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DFD39-4AB8-49BE-BB15-B4D44FC7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29623-2649-416B-98B8-10684CE5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BB8F3-B77A-44F1-9FC4-8FF7C45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05E5-1D25-4608-B46F-9840C7C8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F0A53-CF30-4E12-A722-ECE399E6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5EEF-030F-4CB4-956A-03A1B6A6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AB622-CEC7-471C-B9B5-CA10757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247-ADBD-4F6E-BDF7-38AAC1F9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A6053-839D-4970-A01F-6C66EBB3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45944-5ADE-4BB6-AECB-351C2A27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0FF7-C068-47B7-9635-600BEFD8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44A7-9A4A-4200-B648-F13D7F02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4D962-9174-46B0-8DFC-58F8095F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907B9-E413-43B9-AC79-250380BF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B1CC-33DC-4568-B201-30E17BD1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700EE-FE04-4B9E-8DFC-597CE0B1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91F8B-6384-4FF2-A6ED-A0EA02C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CDB3D-91B7-4442-92A6-642498D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EFB-4007-4170-8F8E-06798C84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52D63-6FDE-48B5-8030-9DE27332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A077F-7C02-4645-9DF5-ACA56E1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26CEF-AE1C-46A7-87E0-F4960682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6CD5-8422-4523-8ABC-95B3946F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033C7-7C0B-4A95-8EF3-A56B25BC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FC13B-0B47-4F3B-B0C1-D92028AD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554C2-E003-4F9D-8EF0-4EF4764D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1D13C-9726-4410-9273-180096A6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6C508-E196-434A-B5A2-1F77B303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8408D-42ED-4031-99BA-F2C6802B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5A0-32FB-492F-A0F5-C1D18D19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7684B-0FC8-4F44-BDA7-3E910170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2E1A3-BEB1-4D46-A17E-DC2E8773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1DC19-F810-4171-8ECE-FF59D78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FF433-4928-48D0-AF89-AF3F570A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9BC05-05D3-4ACD-952F-08981AF7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576EF-0AAF-4E96-8E48-31260792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06D10-E2BF-4576-863E-2329D327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2A222-3B96-4B95-AF8B-61DE87B7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E1E65-70E7-4C04-89F6-41E0ED71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424BA-30EE-49FD-A5F1-10081D91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30C3-4980-4327-96D1-213EAE91D9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F183-27D3-4312-B7D3-921FBBA2F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9662-5CF8-4651-866C-09F0D43B1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67F7-213B-43A9-8BF3-6DCFD7BB9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A11D-F08C-4863-84E1-598DDF91E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02C1-C7D1-45BE-B2E0-6841B3DAB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1BC8-85DB-4FB3-9AC7-19D622188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DFB0-8EE5-4C0F-AC0D-3E9E46C24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B9C0-2C58-489E-A97E-314AD1FF3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F5A-DBEB-433F-9BDC-E9DF52034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B3CC-8A5A-49F8-9CE6-79FD4D14F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AC46-C118-4AA8-8ECB-647DD65CEC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76AA-E153-4154-B47E-AF9E904B6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8E61-8268-41A3-A8F2-0953D317F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C392-A35A-427B-A65E-3A05CA5F2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5F93-8692-4896-905F-0592DAF1C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FC0E-6C9C-4A29-92C2-949231D8D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4A6C-4C15-4E60-B9DF-31E049911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320-9686-4304-B99B-BDB4D1122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8A20-89E4-47C1-98A8-F2FF1517D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EE5D-E108-444E-999B-582BA19DEB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61C1-7FDC-4AA3-9AEF-F8C285B6DB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36D5-A00F-4896-A2EE-8275B15FE0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5B85-E784-4609-B887-D39BE58D4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946B-C204-4780-A7F9-610B2058F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C439-5E20-4F3F-B6D0-928279B8F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3B3-74E8-4485-98DE-0E13D0AFF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png"/><Relationship Id="rId14" Type="http://schemas.openxmlformats.org/officeDocument/2006/relationships/image" Target="../media/image11.wmf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63;&#1090;&#1086;%20&#1101;&#1090;&#1086;_&#1088;&#1072;&#1089;&#1089;&#1082;&#1072;&#1078;&#1080;&#1090;&#1077;%20&#1074;&#1072;&#1096;&#1080;&#1084;%20&#1076;&#1077;&#1090;&#1103;&#1084;.wm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09" name="TextBox 3"/>
          <p:cNvSpPr/>
          <p:nvPr/>
        </p:nvSpPr>
        <p:spPr>
          <a:xfrm>
            <a:off x="684360" y="69228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на Забав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еловек на асфальт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4" descr="http://deti-birulevo.3dn.ru/_si/0/90415262.jpg"/>
          <p:cNvPicPr/>
          <p:nvPr/>
        </p:nvPicPr>
        <p:blipFill>
          <a:blip r:embed="rId2"/>
          <a:stretch/>
        </p:blipFill>
        <p:spPr>
          <a:xfrm>
            <a:off x="-15840" y="0"/>
            <a:ext cx="9217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3" descr=""/>
          <p:cNvPicPr/>
          <p:nvPr/>
        </p:nvPicPr>
        <p:blipFill>
          <a:blip r:embed="rId2"/>
          <a:stretch/>
        </p:blipFill>
        <p:spPr>
          <a:xfrm rot="19536600">
            <a:off x="6516720" y="3645000"/>
            <a:ext cx="2008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-0.11574 L -0.3382 -0.28357 E">
                                      <p:cBhvr>
                                        <p:cTn id="98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3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3328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" dur="5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20" dur="5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3" name="Picture 4" descr=""/>
          <p:cNvPicPr/>
          <p:nvPr/>
        </p:nvPicPr>
        <p:blipFill>
          <a:blip r:embed="rId3"/>
          <a:stretch/>
        </p:blipFill>
        <p:spPr>
          <a:xfrm rot="1387200">
            <a:off x="6803640" y="5013360"/>
            <a:ext cx="194472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4" name="Object 5"/>
          <p:cNvGraphicFramePr/>
          <p:nvPr/>
        </p:nvGraphicFramePr>
        <p:xfrm>
          <a:off x="3348000" y="404640"/>
          <a:ext cx="360036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404640"/>
                    <a:ext cx="36003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Object 6"/>
          <p:cNvGraphicFramePr/>
          <p:nvPr/>
        </p:nvGraphicFramePr>
        <p:xfrm>
          <a:off x="1979640" y="1844640"/>
          <a:ext cx="666720" cy="113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9640" y="1844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Object 7"/>
          <p:cNvGraphicFramePr/>
          <p:nvPr/>
        </p:nvGraphicFramePr>
        <p:xfrm>
          <a:off x="3419640" y="2781360"/>
          <a:ext cx="666720" cy="113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2781360"/>
                    <a:ext cx="6667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0" name="Object 8"/>
          <p:cNvGraphicFramePr/>
          <p:nvPr/>
        </p:nvGraphicFramePr>
        <p:xfrm>
          <a:off x="5508720" y="2852640"/>
          <a:ext cx="666720" cy="113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1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285264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Object 9"/>
          <p:cNvGraphicFramePr/>
          <p:nvPr/>
        </p:nvGraphicFramePr>
        <p:xfrm>
          <a:off x="7164360" y="2492280"/>
          <a:ext cx="666720" cy="113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3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2492280"/>
                    <a:ext cx="6667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4" name="Picture 10" descr="j0344856"/>
          <p:cNvPicPr/>
          <p:nvPr/>
        </p:nvPicPr>
        <p:blipFill>
          <a:blip r:embed="rId14"/>
          <a:stretch/>
        </p:blipFill>
        <p:spPr>
          <a:xfrm flipH="1" rot="1591800">
            <a:off x="324000" y="836640"/>
            <a:ext cx="1287000" cy="13680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2" descr=""/>
          <p:cNvPicPr/>
          <p:nvPr/>
        </p:nvPicPr>
        <p:blipFill>
          <a:blip r:embed="rId15"/>
          <a:stretch/>
        </p:blipFill>
        <p:spPr>
          <a:xfrm>
            <a:off x="2050920" y="0"/>
            <a:ext cx="568980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8 -0.06203 L -0.49202 -0.15648 E">
                                      <p:cBhvr>
                                        <p:cTn id="133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787 L 0.10295 0.41481 E">
                                      <p:cBhvr>
                                        <p:cTn id="176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Rectangle 5"/>
          <p:cNvSpPr/>
          <p:nvPr/>
        </p:nvSpPr>
        <p:spPr>
          <a:xfrm>
            <a:off x="179280" y="2470320"/>
            <a:ext cx="864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11" descr=""/>
          <p:cNvPicPr/>
          <p:nvPr/>
        </p:nvPicPr>
        <p:blipFill>
          <a:blip r:embed="rId3"/>
          <a:stretch/>
        </p:blipFill>
        <p:spPr>
          <a:xfrm>
            <a:off x="3276720" y="2349360"/>
            <a:ext cx="2060280" cy="28083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2" descr="j0344856"/>
          <p:cNvPicPr/>
          <p:nvPr/>
        </p:nvPicPr>
        <p:blipFill>
          <a:blip r:embed="rId4"/>
          <a:stretch/>
        </p:blipFill>
        <p:spPr>
          <a:xfrm>
            <a:off x="3492360" y="54936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3" descr="j0344856"/>
          <p:cNvPicPr/>
          <p:nvPr/>
        </p:nvPicPr>
        <p:blipFill>
          <a:blip r:embed="rId5"/>
          <a:stretch/>
        </p:blipFill>
        <p:spPr>
          <a:xfrm>
            <a:off x="1258920" y="443700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4" descr="j0344856"/>
          <p:cNvPicPr/>
          <p:nvPr/>
        </p:nvPicPr>
        <p:blipFill>
          <a:blip r:embed="rId6"/>
          <a:stretch/>
        </p:blipFill>
        <p:spPr>
          <a:xfrm>
            <a:off x="4932360" y="4508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5" descr="j0344856"/>
          <p:cNvPicPr/>
          <p:nvPr/>
        </p:nvPicPr>
        <p:blipFill>
          <a:blip r:embed="rId7"/>
          <a:stretch/>
        </p:blipFill>
        <p:spPr>
          <a:xfrm>
            <a:off x="5796000" y="227664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6" descr="j0344856"/>
          <p:cNvPicPr/>
          <p:nvPr/>
        </p:nvPicPr>
        <p:blipFill>
          <a:blip r:embed="rId8"/>
          <a:stretch/>
        </p:blipFill>
        <p:spPr>
          <a:xfrm>
            <a:off x="611280" y="191628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77" name="Прямоугольник 3"/>
          <p:cNvSpPr/>
          <p:nvPr/>
        </p:nvSpPr>
        <p:spPr>
          <a:xfrm>
            <a:off x="2428920" y="765000"/>
            <a:ext cx="58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Picture 2" descr="http://wallpaperscraft.ru/image/romashki_cvety_polyana_solnechno_zelen_nebo_leto_34390_1152x864.jpg"/>
          <p:cNvPicPr/>
          <p:nvPr/>
        </p:nvPicPr>
        <p:blipFill>
          <a:blip r:embed="rId2"/>
          <a:stretch/>
        </p:blipFill>
        <p:spPr>
          <a:xfrm>
            <a:off x="-344520" y="-531720"/>
            <a:ext cx="9482040" cy="74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-27000" y="3348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81" name="Прямоугольник 2"/>
          <p:cNvSpPr/>
          <p:nvPr/>
        </p:nvSpPr>
        <p:spPr>
          <a:xfrm>
            <a:off x="34920" y="11160"/>
            <a:ext cx="6985080" cy="66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Земляничная поляна из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араллельной реальности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я чувствую себя комфортн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довлетворён своей работой на уроке полност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Скала, по которой нужн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добраться до замка -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верен, что всё получилось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о буду стараться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Классный кабинет 7 "Е"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увствую себя некомфортно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сё было сложно, я совсе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ичего не понял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Picture 8" descr="http://www.beesona.ru/upload/403/ec0fe4ef1370fb40f9e248f3abf50898.jpg"/>
          <p:cNvPicPr/>
          <p:nvPr/>
        </p:nvPicPr>
        <p:blipFill>
          <a:blip r:embed="rId2"/>
          <a:stretch/>
        </p:blipFill>
        <p:spPr>
          <a:xfrm>
            <a:off x="5789520" y="22320"/>
            <a:ext cx="3354480" cy="2369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0" descr="http://www.niceimage.ru/pic/201305/1280x800/niceimage.ru-52910.jpg"/>
          <p:cNvPicPr/>
          <p:nvPr/>
        </p:nvPicPr>
        <p:blipFill>
          <a:blip r:embed="rId3"/>
          <a:stretch/>
        </p:blipFill>
        <p:spPr>
          <a:xfrm>
            <a:off x="6066000" y="2508120"/>
            <a:ext cx="3078000" cy="22431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2" descr="http://i9.beon.ru/30/14/2621430/56/101695556/6school_28.jpeg"/>
          <p:cNvPicPr/>
          <p:nvPr/>
        </p:nvPicPr>
        <p:blipFill>
          <a:blip r:embed="rId4"/>
          <a:stretch/>
        </p:blipFill>
        <p:spPr>
          <a:xfrm>
            <a:off x="6167520" y="479736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87" name="Прямоугольник 3"/>
          <p:cNvSpPr/>
          <p:nvPr/>
        </p:nvSpPr>
        <p:spPr>
          <a:xfrm>
            <a:off x="2428920" y="765000"/>
            <a:ext cx="581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Рисунок 3" descr="C:\Users\Дом\Desktop\000000001_3659.jpg"/>
          <p:cNvPicPr/>
          <p:nvPr/>
        </p:nvPicPr>
        <p:blipFill>
          <a:blip r:embed="rId2"/>
          <a:stretch/>
        </p:blipFill>
        <p:spPr>
          <a:xfrm>
            <a:off x="6804000" y="3718080"/>
            <a:ext cx="2316240" cy="3116160"/>
          </a:xfrm>
          <a:prstGeom prst="rect">
            <a:avLst/>
          </a:prstGeom>
          <a:ln w="0">
            <a:noFill/>
          </a:ln>
        </p:spPr>
      </p:pic>
      <p:sp>
        <p:nvSpPr>
          <p:cNvPr id="1189" name="Прямоугольник 2"/>
          <p:cNvSpPr/>
          <p:nvPr/>
        </p:nvSpPr>
        <p:spPr>
          <a:xfrm>
            <a:off x="2268360" y="1674720"/>
            <a:ext cx="639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письмо одному из героев повести (стихи, проза, рисунок, даже музыкальное произвед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13" name="Прямоугольник 2"/>
          <p:cNvSpPr/>
          <p:nvPr/>
        </p:nvSpPr>
        <p:spPr>
          <a:xfrm>
            <a:off x="2484360" y="1328760"/>
            <a:ext cx="70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 самом главном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3"/>
          <p:cNvSpPr/>
          <p:nvPr/>
        </p:nvSpPr>
        <p:spPr>
          <a:xfrm>
            <a:off x="1619280" y="692280"/>
            <a:ext cx="741672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ое декаб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милосердия в рассказ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. Мурашовой «Класс коррекци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лосердию не достучаться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тех, у кого души оби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войлоком равнодуш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гений Багаш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6" descr="http://ugranow.ru/wp-content/uploads/2015/02/17.02.jpg"/>
          <p:cNvPicPr/>
          <p:nvPr/>
        </p:nvPicPr>
        <p:blipFill>
          <a:blip r:embed="rId1"/>
          <a:stretch/>
        </p:blipFill>
        <p:spPr>
          <a:xfrm>
            <a:off x="0" y="-603360"/>
            <a:ext cx="9312120" cy="777744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5"/>
          <p:cNvSpPr/>
          <p:nvPr/>
        </p:nvSpPr>
        <p:spPr>
          <a:xfrm>
            <a:off x="5076720" y="5589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део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7043760"/>
          </a:xfrm>
          <a:prstGeom prst="rect">
            <a:avLst/>
          </a:prstGeom>
          <a:ln w="0">
            <a:noFill/>
          </a:ln>
        </p:spPr>
      </p:pic>
      <p:sp>
        <p:nvSpPr>
          <p:cNvPr id="1122" name="Прямоугольник 2"/>
          <p:cNvSpPr/>
          <p:nvPr/>
        </p:nvSpPr>
        <p:spPr>
          <a:xfrm>
            <a:off x="1403280" y="620640"/>
            <a:ext cx="77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лосердие – со-чувствие, со-страдание, способность помогать тем, кто нуждается в помощ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2" descr="C:\Users\admin\Desktop\шаблоны школьные\54308021.jpg"/>
          <p:cNvPicPr/>
          <p:nvPr/>
        </p:nvPicPr>
        <p:blipFill>
          <a:blip r:embed="rId1"/>
          <a:stretch/>
        </p:blipFill>
        <p:spPr>
          <a:xfrm>
            <a:off x="0" y="-185760"/>
            <a:ext cx="9144000" cy="70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5" name=""/>
          <p:cNvGraphicFramePr/>
          <p:nvPr/>
        </p:nvGraphicFramePr>
        <p:xfrm>
          <a:off x="2700360" y="765000"/>
          <a:ext cx="6340320" cy="5783400"/>
        </p:xfrm>
        <a:graphic>
          <a:graphicData uri="http://schemas.openxmlformats.org/drawingml/2006/table">
            <a:tbl>
              <a:tblPr/>
              <a:tblGrid>
                <a:gridCol w="5450040"/>
                <a:gridCol w="890280"/>
              </a:tblGrid>
              <a:tr h="84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ина или лож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ра Мальков учится с ребятами из  7 "Е" с первого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ного руководителя 7"Е" класса зовут Клавдия Никола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бачок на границе реального и параллельного мира называется "Три ковбоя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араллельном мире всегда весна-ле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могли попасть в параллельную реальность независимо от Ю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лизавета Петровна – завуч по воспитательной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и учеников-гимназистов с радостью пригласили Юру Малькова на экскурс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полях Мишаниных конспектов был нарисован профиль Стеш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 том, что Стеша пропала, Антону сообщила Л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мог отыскать Стешу Вад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онце повести класс коррекции реформируют в общеобразовательный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TextBox 5"/>
          <p:cNvSpPr/>
          <p:nvPr/>
        </p:nvSpPr>
        <p:spPr>
          <a:xfrm>
            <a:off x="2556000" y="-1000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ина-лож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9" name="Дорогой добра.mp3" descr=""/>
          <p:cNvPicPr/>
          <p:nvPr/>
        </p:nvPicPr>
        <p:blipFill>
          <a:blip r:embed="rId3"/>
          <a:stretch/>
        </p:blipFill>
        <p:spPr>
          <a:xfrm>
            <a:off x="474840" y="5703840"/>
            <a:ext cx="920520" cy="920880"/>
          </a:xfrm>
          <a:prstGeom prst="rect">
            <a:avLst/>
          </a:prstGeom>
          <a:ln w="0">
            <a:noFill/>
          </a:ln>
        </p:spPr>
      </p:pic>
      <p:sp>
        <p:nvSpPr>
          <p:cNvPr id="1130" name="WordArt 4"/>
          <p:cNvSpPr txBox="1"/>
          <p:nvPr/>
        </p:nvSpPr>
        <p:spPr>
          <a:xfrm rot="201600">
            <a:off x="334440" y="9000"/>
            <a:ext cx="8350560" cy="25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Wooden Ship Decorated"/>
              </a:rPr>
              <a:t>Дорога  добр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131" name="WordArt 5"/>
          <p:cNvSpPr txBox="1"/>
          <p:nvPr/>
        </p:nvSpPr>
        <p:spPr>
          <a:xfrm>
            <a:off x="1908000" y="2637000"/>
            <a:ext cx="5391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2" name="WordArt 8"/>
          <p:cNvSpPr txBox="1"/>
          <p:nvPr/>
        </p:nvSpPr>
        <p:spPr>
          <a:xfrm>
            <a:off x="3276720" y="4724280"/>
            <a:ext cx="49165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3" name="Picture 9" descr=""/>
          <p:cNvPicPr/>
          <p:nvPr/>
        </p:nvPicPr>
        <p:blipFill>
          <a:blip r:embed="rId4"/>
          <a:stretch/>
        </p:blipFill>
        <p:spPr>
          <a:xfrm rot="19262400">
            <a:off x="395280" y="3789000"/>
            <a:ext cx="107964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Object 6"/>
          <p:cNvGraphicFramePr/>
          <p:nvPr/>
        </p:nvGraphicFramePr>
        <p:xfrm>
          <a:off x="0" y="0"/>
          <a:ext cx="33051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30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8" name="Picture 8" descr=""/>
          <p:cNvPicPr/>
          <p:nvPr/>
        </p:nvPicPr>
        <p:blipFill>
          <a:blip r:embed="rId5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9" name="Object 10"/>
          <p:cNvGraphicFramePr/>
          <p:nvPr/>
        </p:nvGraphicFramePr>
        <p:xfrm>
          <a:off x="3733920" y="0"/>
          <a:ext cx="1676160" cy="685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0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0"/>
                    <a:ext cx="1676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1" name="Picture 9" descr="j0344856"/>
          <p:cNvPicPr/>
          <p:nvPr/>
        </p:nvPicPr>
        <p:blipFill>
          <a:blip r:embed="rId8"/>
          <a:stretch/>
        </p:blipFill>
        <p:spPr>
          <a:xfrm>
            <a:off x="7164360" y="4797360"/>
            <a:ext cx="172404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6.2963E-006 L -0.48038 6.2963E-006 E">
                                      <p:cBhvr>
                                        <p:cTn id="58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38 -1.11111E-006 L -0.72448 -0.59838 E">
                                      <p:cBhvr>
                                        <p:cTn id="62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Object 3"/>
          <p:cNvGraphicFramePr/>
          <p:nvPr/>
        </p:nvGraphicFramePr>
        <p:xfrm>
          <a:off x="6372360" y="333360"/>
          <a:ext cx="249228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333360"/>
                    <a:ext cx="249228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6" name="Picture 4" descr="j0344856"/>
          <p:cNvPicPr/>
          <p:nvPr/>
        </p:nvPicPr>
        <p:blipFill>
          <a:blip r:embed="rId5"/>
          <a:stretch/>
        </p:blipFill>
        <p:spPr>
          <a:xfrm>
            <a:off x="7451640" y="4869000"/>
            <a:ext cx="135432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1 0.0331 L -0.65608 0.04352 E">
                                      <p:cBhvr>
                                        <p:cTn id="68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0.00017 -0.5537 E">
                                      <p:cBhvr>
                                        <p:cTn id="72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-0.00902 L -0.65608 0.57894 E">
                                      <p:cBhvr>
                                        <p:cTn id="76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5537 L -0.6849 -0.5537 E">
                                      <p:cBhvr>
                                        <p:cTn id="80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608 0.57894 L -0.36458 0.25348 E">
                                      <p:cBhvr>
                                        <p:cTn id="84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8 -0.65856 C -0.21129 -0.65856 -0.06285 -0.4919 -0.06285 -0.28634 C -0.06285 -0.08079 -0.21129 0.08681 -0.39358 0.08681 C -0.57622 0.08681 -0.72431 -0.08079 -0.72431 -0.28634 C -0.72431 -0.4919 -0.57622 -0.65856 -0.39358 -0.65856 Z">
                                      <p:cBhvr>
                                        <p:cTn id="88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57 -0.65856 C -0.21145 -0.65856 -0.06284 -0.48935 -0.06284 -0.28056 C -0.06284 -0.07222 -0.21145 0.09745 -0.39357 0.09745 C -0.57604 0.09745 -0.7243 -0.07222 -0.7243 -0.28056 C -0.7243 -0.48935 -0.57604 -0.65856 -0.39357 -0.65856 Z">
                                      <p:cBhvr>
                                        <p:cTn id="92" dur="2000" fill="hold"/>
                                        <p:tgtEl>
                                          <p:spTgt spid="1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7-02-02T11:28:26Z</dcterms:modified>
  <cp:revision>568</cp:revision>
  <dc:subject/>
  <dc:title>Diapositiva 1</dc:title>
</cp:coreProperties>
</file>